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BBBD-1C78-45B1-8794-07FBF4C33634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is this? Full sent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871-BA66-4569-A956-81A6BC716092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F7AA-ABD8-4789-BF24-820ADE6C64F1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725-22FE-4FED-8E19-BD8183306D1A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ell me what this picture is telling you about the film we are about to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does the title have to do with the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E76-A74F-4946-949D-A0782E42B63F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man standing is called Atticus Fin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 Finch is also the name of a bi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om Robinson is the only black man in the pictur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is he doing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BAF-53FC-426B-BED9-E79778C0D6E1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tticus has two child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 boy Jem and a Girl called Sc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cout tells the 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3AD-22DC-4CED-9D8C-E6A6A2821A21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Calpurnia. She is the maid, but Atticus says that she is like a mother to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cout cannot remember her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FFF-F5FB-40FD-821F-9A1963662A8F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children have a neighbour called BOO who is hardly ever s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children are frightened of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D41-367C-4113-8478-0EBC0FDD571F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om Robinson lives in a world separated between black and wh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1C93-9CEB-4612-8A74-752369FE2365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tticus kills a living creature, but it is very different from killing a mocking bi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A863-D50C-42FC-9E7D-F1045309093A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People were without jobs, some without homes and were dependent on people giving them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is is a picture of a men at a soup kitch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Black people were generally poorer and had lower status than whites and were perhaps even poorer during the depression in the 1930’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2A3-BEBA-4F5E-825A-293208FD31D2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59B-BAC6-4A1C-866D-DC842268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1F7-C03B-4058-AF20-05FBC67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823-22C1-43A8-A648-2A5EC68E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3F6-69C7-4672-8368-6BF5B2BE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897-61A5-47ED-8B8C-0B8DC334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9D9-6A5A-46AF-B282-BD0E3B41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6E8-E722-4331-BD0F-8A7D7AD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CCE-E5C6-422D-84EF-1CFD271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9B3-51AB-48D6-89C6-6923185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D56-4AFF-4C0D-8C96-461C62B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305-B73F-4D37-88B2-192E9C6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D37-91FD-46E9-B9D7-48DBDB6C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B11-FFD8-49E9-92E1-502B3BB91F37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Mocking 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seattlepi.nwsource.com/dayart/20070914/450_mockingbird.jpg"/>
          <p:cNvPicPr/>
          <p:nvPr/>
        </p:nvPicPr>
        <p:blipFill>
          <a:blip r:embed="rId1"/>
          <a:stretch/>
        </p:blipFill>
        <p:spPr>
          <a:xfrm>
            <a:off x="2214720" y="1643040"/>
            <a:ext cx="4903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To Kill a Mocking Bird was set in the 1930’s but published in 19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7140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–195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Parks and the Montgomery Bus Boycot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-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 R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er Registration Organiz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ch on Washing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. King Awarded Nobel Peace Pr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vil Rights Act protection of minorities by Federal law &amp; can overrule state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ycott of New Orleans by American Football League 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ing Rights Act: State Regulations preventing minorities from voting abolis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phis, King assassinated and the Poor People's Mar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WHAT DO YOU THINK THE THEME OF TO KILL A MOCKING BIRD 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95808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To Kill a Mocking Bird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a novel by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arper L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buffyholt.com/blog/wp-content/uploads/2007/11/to-kill-a-mockingbird.gif"/>
          <p:cNvPicPr/>
          <p:nvPr/>
        </p:nvPicPr>
        <p:blipFill>
          <a:blip r:embed="rId1"/>
          <a:stretch/>
        </p:blipFill>
        <p:spPr>
          <a:xfrm>
            <a:off x="2500200" y="2643120"/>
            <a:ext cx="42865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Atticus a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heboyganfalls.k12.wi.us/students/hogue10/10cjlorg/images/to-kill-a-mockingbird-full%5B1%5D.jpg"/>
          <p:cNvPicPr/>
          <p:nvPr/>
        </p:nvPicPr>
        <p:blipFill>
          <a:blip r:embed="rId1"/>
          <a:stretch/>
        </p:blipFill>
        <p:spPr>
          <a:xfrm>
            <a:off x="1714680" y="2143080"/>
            <a:ext cx="60958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Atticus at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sixthman.net/blog/wp-content/uploads/2008/11/mockingbird3.jpg"/>
          <p:cNvPicPr/>
          <p:nvPr/>
        </p:nvPicPr>
        <p:blipFill>
          <a:blip r:embed="rId1"/>
          <a:stretch/>
        </p:blipFill>
        <p:spPr>
          <a:xfrm>
            <a:off x="642960" y="1357200"/>
            <a:ext cx="4154400" cy="478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a6.vox.com/6a00c225287c8b8e1d00d4144564563c7f-500pi"/>
          <p:cNvPicPr/>
          <p:nvPr/>
        </p:nvPicPr>
        <p:blipFill>
          <a:blip r:embed="rId2"/>
          <a:stretch/>
        </p:blipFill>
        <p:spPr>
          <a:xfrm>
            <a:off x="5286240" y="1357200"/>
            <a:ext cx="3462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frankwbaker.com/calpurnia.jpg"/>
          <p:cNvPicPr/>
          <p:nvPr/>
        </p:nvPicPr>
        <p:blipFill>
          <a:blip r:embed="rId1"/>
          <a:stretch/>
        </p:blipFill>
        <p:spPr>
          <a:xfrm>
            <a:off x="1357200" y="785880"/>
            <a:ext cx="2714760" cy="3465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57200" y="4357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www.mmgcollectibles.com/images/R/RH/RH322f.jpg"/>
          <p:cNvPicPr/>
          <p:nvPr/>
        </p:nvPicPr>
        <p:blipFill>
          <a:blip r:embed="rId2"/>
          <a:stretch/>
        </p:blipFill>
        <p:spPr>
          <a:xfrm>
            <a:off x="4286160" y="78588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857840" y="4357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D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B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frankwbaker.com/porchscene.jpg"/>
          <p:cNvPicPr/>
          <p:nvPr/>
        </p:nvPicPr>
        <p:blipFill>
          <a:blip r:embed="rId1"/>
          <a:stretch/>
        </p:blipFill>
        <p:spPr>
          <a:xfrm>
            <a:off x="2500200" y="221472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om Robi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mage, Source: digital file from original neg."/>
          <p:cNvPicPr/>
          <p:nvPr/>
        </p:nvPicPr>
        <p:blipFill>
          <a:blip r:embed="rId1"/>
          <a:stretch/>
        </p:blipFill>
        <p:spPr>
          <a:xfrm>
            <a:off x="1785960" y="1643040"/>
            <a:ext cx="6095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he hidden side of At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sheboyganfalls.k12.wi.us/students/2009/09cjsach/images/to_kill_a_mockingbird1%5B1%5D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he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camas.wednet.edu/chs/staff/mgardner/images/gd41.gif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02:26Z</dcterms:created>
  <dc:creator>.</dc:creator>
  <dc:description/>
  <dc:language>en-US</dc:language>
  <cp:lastModifiedBy>.</cp:lastModifiedBy>
  <dcterms:modified xsi:type="dcterms:W3CDTF">2009-03-02T19:25:07Z</dcterms:modified>
  <cp:revision>10</cp:revision>
  <dc:subject/>
  <dc:title>Mocking Bird</dc:title>
</cp:coreProperties>
</file>